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9.png" ContentType="image/png"/>
  <Override PartName="/ppt/media/image22.jpeg" ContentType="image/jpe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51B-AB9F-4718-A48D-C7587908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4B5-340E-47B8-B31E-D1C2AD4F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F09-25CA-4BA1-AB67-A74EA8D9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F9B-01CB-477B-A35B-2181DDF2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6902-DAAE-41E2-B9DB-AD26EFB7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B768-5BBD-46E1-9D8B-42498730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D3C0-DB37-42BF-A23B-29D940CB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9B8F-AA7F-44A7-AFC9-D91B5D4F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A0B9-A29A-4A13-843A-1B1A5DE7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DA70-A04A-4011-8223-0092DCB2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26A1-A0B3-4F29-8FA9-B47EF53B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614-A60F-4C5E-BBAF-D54960C1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983A-7448-484B-AFE2-2A392134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53A8-6C85-414B-B09C-2DB124F3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A328-BC2A-4275-BBA5-6B036CD2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01BE-9F35-4F0B-B3B1-D6CFFBB3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D24B-4023-484B-9472-A57B0741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753-5317-4343-8960-6F230A56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EF7-7933-4625-A3C4-FC29B3D8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CE7-866A-4D56-9F43-D6DBDCD7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514-35DD-4D8C-A4A1-D26F4598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010-7E52-4AFD-BB18-C80BD391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502-A9DF-4C57-A55C-24912BA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6BC-D11F-4F5E-BAC3-759ABC89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91F6-2997-44B6-9F74-D822DA75F926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4419720" y="3352680"/>
              <a:ext cx="31428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537D-EFF9-4B49-827C-7F0ABE785256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olitics and Life in the 1920’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 History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hapter 27-29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00400" y="15840"/>
            <a:ext cx="449568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   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7400" y="5851440"/>
            <a:ext cx="6629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If Capital &amp; Labor Don’t Pull Together” – </a:t>
            </a:r>
            <a:r>
              <a:rPr b="1" i="1" lang="en-US" sz="2500" spc="-1" strike="noStrike">
                <a:solidFill>
                  <a:srgbClr val="cc3300"/>
                </a:solidFill>
                <a:latin typeface="Comic Sans MS"/>
              </a:rPr>
              <a:t>Chicago Tribune</a:t>
            </a:r>
            <a:endParaRPr b="0" lang="en-US" sz="25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0" t="0" r="0" b="10606"/>
          <a:stretch/>
        </p:blipFill>
        <p:spPr>
          <a:xfrm>
            <a:off x="2887560" y="762120"/>
            <a:ext cx="4808520" cy="487656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Eurostile"/>
              </a:rPr>
              <a:t>Consequences of Labor Unrest</a:t>
            </a:r>
            <a:endParaRPr b="0" lang="en-US" sz="3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6172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While We Rock the Boat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Washington Ti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rcRect l="0" t="0" r="0" b="12504"/>
          <a:stretch/>
        </p:blipFill>
        <p:spPr>
          <a:xfrm>
            <a:off x="304920" y="1143000"/>
            <a:ext cx="4348080" cy="48769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2133360" cy="4038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Coal Miners’ Strike - 1919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6095880"/>
            <a:ext cx="647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Keeping Warm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Los Angeles Times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contrast="6000"/>
          </a:blip>
          <a:srcRect l="0" t="0" r="0" b="8698"/>
          <a:stretch/>
        </p:blipFill>
        <p:spPr>
          <a:xfrm>
            <a:off x="3459240" y="914400"/>
            <a:ext cx="4008240" cy="51055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1981080" cy="2210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Eurostile"/>
              </a:rPr>
              <a:t>Steel  Strike - 1919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00200" y="6095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ming Out of the Smoke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New York Worl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>
            <a:lum contrast="6000"/>
          </a:blip>
          <a:srcRect l="0" t="0" r="0" b="10148"/>
          <a:stretch/>
        </p:blipFill>
        <p:spPr>
          <a:xfrm>
            <a:off x="3100320" y="990720"/>
            <a:ext cx="4748400" cy="50292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rcRect l="0" t="0" r="0" b="10670"/>
          <a:stretch/>
        </p:blipFill>
        <p:spPr>
          <a:xfrm>
            <a:off x="1600200" y="685800"/>
            <a:ext cx="5715000" cy="48006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419" name=""/>
          <p:cNvSpPr/>
          <p:nvPr/>
        </p:nvSpPr>
        <p:spPr>
          <a:xfrm>
            <a:off x="1828800" y="57913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He gives aid &amp; comfort to the enemies of society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Chicago Tribune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76320"/>
            <a:ext cx="647712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16256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Boston Police Strike - 1919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>
            <a:lum contrast="6000"/>
          </a:blip>
          <a:srcRect l="0" t="0" r="639" b="10000"/>
          <a:stretch/>
        </p:blipFill>
        <p:spPr>
          <a:xfrm>
            <a:off x="3135240" y="1143000"/>
            <a:ext cx="4713480" cy="48006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1752480" y="606420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Striking Back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New York Evening World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turn to ‘Normalcy’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Kellogg-Briand Pac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ernational agreement against using war as an instrument of national polic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mall problem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 way to enfor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mmigration Quota System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aximum number of people allowed to enter US by foreign country (changes from year to year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mmigration Chan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476244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09200" y="2170080"/>
            <a:ext cx="209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ed = North/We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urop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Blue = South/Ea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Europ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usiness of Americ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mpact of the Automobi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aved road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rban spraw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dependence and economic rev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lectric Convenienc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adios ($75), washing machine ($150), sewing machine ($60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dvertising, credit, and consumer choic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ord Model T and Model 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2476440" cy="16192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147680" y="4724280"/>
            <a:ext cx="21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odel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15 million produced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62720" y="4761000"/>
            <a:ext cx="260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odel 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2 million people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Viewed in NY on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First da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ost-War Americ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newed isolation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creased suspicion of foreign-born peop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creased political conservatism (traditional value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urning away from progressive refor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ear of Commun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ommunism – an economic and political system that advocates a single political party and state ownership of proper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85800" y="930240"/>
            <a:ext cx="7772400" cy="4843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85800" y="1384200"/>
            <a:ext cx="7772400" cy="3935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The Prohibition Experiment</a:t>
            </a:r>
            <a:br>
              <a:rPr sz="4000"/>
            </a:b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1920-1933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aus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Various religious groups thought alcohol was sinfu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eed to protect the public’s health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lcohol leads to crime, domestic abuse, and job issu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ativism – against foreign born brewers and immigrants that used alcoh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Widespread disregard for the law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creased smuggling and bootlegg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ew source of criminal incom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irth of organized crim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hibi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287360" y="1981080"/>
            <a:ext cx="2605320" cy="41148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510000" cy="2614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Twenties Wom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ashio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hat do clothing styles reflect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moking, dancing, and drink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rriag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uble standar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Birth Control – Margaret Sang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10 million women workers (24% of the tot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wenties Fash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04840" y="2139840"/>
            <a:ext cx="2971800" cy="3797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istory Repeats Itself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arents feel their children are staying out too lat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rime is on the ri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runkenness is a serious proble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eople are risking their savings on stock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eople are spending money on things they don’t ne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spend too much time listening to musi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don’t spend enough time on schoolwor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omen spend less time at home being wives and mother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are going out in cars and it is unsaf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oday’s new music is terrible and ruining young peopl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ice” girls shouldn’t smoke, wear tight clothes or drin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tertainment of the 1920’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ports Hero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aseball – Babe Ruth (60 HR in 1927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oxing – Jack Dempsey vs. Gene Tunney (150,000 viewer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otball – Notre Dame &amp; Knute Rockne (Five undefeated season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wimming – Gertrude Ederle – first woman to swim the English Chann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unney vs. Dempse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523880" y="1479600"/>
            <a:ext cx="6216840" cy="5378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re Entertainme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harles Lindbergh’s Flight – first nonstop solo flight across the Atlantic (34 hours = $25,000 priz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ovies – from silent to sound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usic &amp; Literatur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eorge Gershwin – compos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lair Lewis – first American Nobel Prize for literatur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rnest Hemingwa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ewspapers and weekly magazines (Time, Reader’s Dige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5257800" cy="457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The “Red Scare”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What a Year Has Brought Forth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NY Worl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>
            <a:lum contrast="6000"/>
          </a:blip>
          <a:srcRect l="0" t="0" r="0" b="9524"/>
          <a:stretch/>
        </p:blipFill>
        <p:spPr>
          <a:xfrm>
            <a:off x="3276720" y="1295280"/>
            <a:ext cx="4189320" cy="48769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The Movies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new culture of youth and celebrity emerged with the popularity of the movies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525840" cy="5029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 The Mov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59432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Rudolph Valentino and Clara Bow- two sex symbols and film icons of the Jazz Age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4788000" y="1981080"/>
            <a:ext cx="2975040" cy="3602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333440" y="1981080"/>
            <a:ext cx="2908440" cy="3602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Radi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s the popularity of radio expanded, advertisers began sponsoring radio shows to appeal to consumer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By the end of the decade, 40% of homes had radio receivers. </a:t>
            </a:r>
            <a:br>
              <a:rPr sz="2400"/>
            </a:b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182760" cy="4786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Mass Culture: Music and the Music Industry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952520" y="1752120"/>
            <a:ext cx="403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s America developed mass culture through film, advertising, and radio, previously isolated musical styles blended to produce lively and often rebellious radio hits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343400" cy="3749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frican-America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reat Mig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y the end of the 1920’s almost five million African-Americans lived in cities (40%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uge numbers of race riots (25 in 1919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oals – NAACP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test racial viol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mote legislation to protect African-American righ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039680" y="609480"/>
            <a:ext cx="706284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rcus Garve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unded Universal Negro Improvement Associ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mote African-American business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pport a ‘Back to Africa’ move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lack Star Lin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lonize a n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onvicted of mail fraud and jail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egacy =  black pride, economic independence and reverence for Afric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arlem Renaissa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iterary and artistic movement celebrating African-American cultur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hy Harlem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Mix of southerners, West Indies, Cuba, Puerto Rico, and Haiti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World’s largest black urban communit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Key figur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laude McKay – militant po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Langston Hughes – po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Louis Armstrong – Jazz musicia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uke Ellington – Jazz musicia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cience vs. Relig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damentalism – literal interpretation of the Bi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dam &amp; Eve or a Monkey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olution theo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reation theo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e Scopes Tria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ayton, Tennessee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Defenda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981160" y="1981080"/>
            <a:ext cx="31798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8229600" cy="974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“</a:t>
            </a: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Red Scare” -- Anti-Communism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5743440"/>
            <a:ext cx="662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Put Them Out &amp; Keep Them Out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Philadelphia Inquirer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>
            <a:lum contrast="6000"/>
          </a:blip>
          <a:srcRect l="0" t="0" r="0" b="13846"/>
          <a:stretch/>
        </p:blipFill>
        <p:spPr>
          <a:xfrm>
            <a:off x="380880" y="1219320"/>
            <a:ext cx="4648320" cy="455904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Lawye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952640" y="1981080"/>
            <a:ext cx="52372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Outcom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copes – Guilty $100 fi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rrow wins verbal war by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sking Bryan if God created the world in 6 days (as we know a day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ryan’s answer cast doubt on the length of the day (which weakens the fundamentalist argument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1920s Review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acco &amp; Vanzetti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auses/Effects of Prohibi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mpacts of the Automobi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on issu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reat Migr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arlem Renaiss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uble standar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damental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opes Tri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7315200" cy="503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“</a:t>
            </a:r>
            <a:r>
              <a:rPr b="1" lang="en-US" sz="4000" spc="-1" strike="noStrike">
                <a:solidFill>
                  <a:srgbClr val="cc3300"/>
                </a:solidFill>
                <a:latin typeface="Eurostile"/>
              </a:rPr>
              <a:t>Red</a:t>
            </a: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 Scare” – Palmer Raids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81080" y="6172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. Mitchell Palmer’s Home Bombed, 192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>
            <a:lum contrast="6000"/>
          </a:blip>
          <a:srcRect l="0" t="0" r="0" b="11594"/>
          <a:stretch/>
        </p:blipFill>
        <p:spPr>
          <a:xfrm>
            <a:off x="3581280" y="990720"/>
            <a:ext cx="3592800" cy="50292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turn of the Kl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1924 membership = 4.5 mill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elief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Keep “blacks in their place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rive Catholics, Jews, and foreign-born out of the count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nforce prohibi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pose labor un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419720" y="685800"/>
            <a:ext cx="2927160" cy="5486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43040" y="182556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Picnic with the Kl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Milwauke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3809880"/>
            <a:ext cx="1828800" cy="6098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2971800"/>
            <a:ext cx="274320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We promise a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hot” lunch!!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495680" y="609480"/>
            <a:ext cx="3924360" cy="28576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17680" y="990720"/>
            <a:ext cx="314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Welcome not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to a Madison, W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African-Americ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2832120" cy="2361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733920" y="15238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02520" y="431316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mic Sans MS"/>
              </a:rPr>
              <a:t>What is the symbolism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518148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nti-Labor Mov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nions tied to Communist belief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ecline in Union Membershi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ise in immigr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ovement from rural area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clusion of African-America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20:35:47Z</dcterms:created>
  <dc:creator> </dc:creator>
  <dc:description/>
  <dc:language>en-US</dc:language>
  <cp:lastModifiedBy>School District U46</cp:lastModifiedBy>
  <dcterms:modified xsi:type="dcterms:W3CDTF">2009-12-07T14:29:38Z</dcterms:modified>
  <cp:revision>19</cp:revision>
  <dc:subject/>
  <dc:title>Politics and Life in the 1920’s</dc:title>
</cp:coreProperties>
</file>